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BD3A-3C7B-4A6C-8509-7861C969D5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AF6E-76FE-4714-A3F0-E4FF0F1423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285F-BF57-4BAB-8389-29C95D18CB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446-8516-4777-91D3-B75883FB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1E7-5D05-4D22-9BD2-FC2B310F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377-5F72-449F-8084-54682E7E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F4E-BCD1-4327-B11A-6C9B4BE6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264-88AA-4808-A010-4E5F37F3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BC7-E448-4072-84A3-42081A96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6C5-FA3D-435C-97BB-9F355020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C58-680D-47A9-9770-783CDA15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BA5-7C5B-4DC6-8E83-AF45D5AC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DA0-0451-43BE-AC91-30E03CB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8F2-DE02-4549-B4ED-3EDBCD07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553-4AF4-4120-8FCB-624367E6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2011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C141-2D90-4429-8E17-B0CD1857C95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Chapitre 2</a:t>
            </a:r>
            <a:br>
              <a:rPr sz="2800"/>
            </a:b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Unités de mesure et transformations de l’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Université de Stras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FSEG/B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12240" y="40464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onomie de l’énerg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s 2012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Jean-Alain\Bureau\Transf CO H2.jpg"/>
          <p:cNvPicPr/>
          <p:nvPr/>
        </p:nvPicPr>
        <p:blipFill>
          <a:blip r:embed="rId1"/>
          <a:stretch/>
        </p:blipFill>
        <p:spPr>
          <a:xfrm>
            <a:off x="295200" y="-243000"/>
            <a:ext cx="8799480" cy="6369120"/>
          </a:xfrm>
          <a:prstGeom prst="rect">
            <a:avLst/>
          </a:prstGeom>
          <a:ln w="0">
            <a:noFill/>
          </a:ln>
        </p:spPr>
      </p:pic>
      <p:sp>
        <p:nvSpPr>
          <p:cNvPr id="76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3. La densité énergé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Densité d’énergie (MJ/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Espace réservé du contenu 4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82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Rendement et encombrement: </a:t>
            </a:r>
            <a:br>
              <a:rPr sz="3600"/>
            </a:b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le cas de l’auto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8229600" cy="34797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teur énergé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ce DIE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ies LITH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 Nat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gè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 à stocker pour 100 kWh mécan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k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nécess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li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à 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à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à 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à 4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à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à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ée de rempli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 à 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5" name="ZoneTexte 5"/>
          <p:cNvSpPr/>
          <p:nvPr/>
        </p:nvSpPr>
        <p:spPr>
          <a:xfrm>
            <a:off x="4865760" y="5661000"/>
            <a:ext cx="379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our la Science ,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ossier N°69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1. Unités de mesure des ressources énergé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la différence des sciences physiques, l’économie et le management de l’énergie s’expriment avec une grande variété d’unités de me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énergie n’est pas homogène pour le monde de l’industrie ou pour le consommateur final: la dimension qualitative est essenti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Unités physiques d’éner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physique s’exprime en Joule, les ingénieurs et commerçants souvent avec d’autres uni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ement beaucoup plus grandes, comme la thermie ou le k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ordre de grandeur est plutôt le million de jo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MJ (mégajoule) va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,239 th (therm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,278 k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marque: 1 th = 1,163 kWh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même ordre de grande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certaines industries on parle encore en unités anglaises, 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T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British Thermal Uni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BTU = 1,055 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J= 0,252 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ce réservé du pied de page 3"/>
          <p:cNvSpPr/>
          <p:nvPr/>
        </p:nvSpPr>
        <p:spPr>
          <a:xfrm>
            <a:off x="250920" y="6445080"/>
            <a:ext cx="3608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quivalents standard </a:t>
            </a:r>
            <a:br>
              <a:rPr sz="3200"/>
            </a:b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pour le pétrole et le ch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nne équivalent pétro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tep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= 12 602 kWh (12,6 MWh) = 10 838 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marque: c’est une moyenne (pour un « bon » pét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nne équivalent charbo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tec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= 0,6 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marque: c’est une moyenne (pour une matière encore plus hétérogène que le pétrole conventionnel); la référence c’est l’anthracite qui est la meilleure forme de ch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Arial"/>
              </a:rPr>
              <a:t>Quelques exemples de contenu énerg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tonne de gazole ou fioul domestique a un PCI (pouvoir calorifique inférieur) d’approximativement 1 tep (42 G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tonne d’essence moteur = 1,05 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tonne de fioul lourd = 0,95 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tonne de houille = 0,62 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tonne de coke (de houille ou de pétrole) = 0,76 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tonne de lignite = 0,4 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L’unité traditionnelle </a:t>
            </a:r>
            <a:br>
              <a:rPr sz="3200"/>
            </a:b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utilisée dans l’industrie pétrol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ari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aril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 159 lit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,133 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,676 kW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,442 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Remar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100 $/baril fait alors 5,5 ¢/k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space réservé du pied de page 3"/>
          <p:cNvSpPr/>
          <p:nvPr/>
        </p:nvSpPr>
        <p:spPr>
          <a:xfrm>
            <a:off x="3124080" y="6453360"/>
            <a:ext cx="3608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Arial"/>
              </a:rPr>
              <a:t>Synthèse des taux de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Documents and Settings\Jean-Alain\Bureau\conversions unités.jpg"/>
          <p:cNvPicPr/>
          <p:nvPr/>
        </p:nvPicPr>
        <p:blipFill>
          <a:blip r:embed="rId1"/>
          <a:stretch/>
        </p:blipFill>
        <p:spPr>
          <a:xfrm>
            <a:off x="-11160" y="2205000"/>
            <a:ext cx="9696600" cy="3054240"/>
          </a:xfrm>
          <a:prstGeom prst="rect">
            <a:avLst/>
          </a:prstGeom>
          <a:ln w="0">
            <a:noFill/>
          </a:ln>
        </p:spPr>
      </p:pic>
      <p:sp>
        <p:nvSpPr>
          <p:cNvPr id="68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2. La conversion des éner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y a d’abord des questions de rendement dans les install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ntenu énergétique théorique d’une tonne de pétrole standard est 12,6 M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le rendement moyen des centrales thermiques fait qu’on en tire concrè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4 MWh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électri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e qui est du gaz naturel, le pouvoir calorifique moyen est de 10 th/m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c 1m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N correspond à 11,6 kWh (un millième de t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1700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La conversion du ch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Documents and Settings\Jean-Alain\Bureau\Conversion charbon.jpg"/>
          <p:cNvPicPr/>
          <p:nvPr/>
        </p:nvPicPr>
        <p:blipFill>
          <a:blip r:embed="rId1"/>
          <a:stretch/>
        </p:blipFill>
        <p:spPr>
          <a:xfrm>
            <a:off x="3924360" y="-243000"/>
            <a:ext cx="4895640" cy="7278840"/>
          </a:xfrm>
          <a:prstGeom prst="rect">
            <a:avLst/>
          </a:prstGeom>
          <a:ln w="0">
            <a:noFill/>
          </a:ln>
        </p:spPr>
      </p:pic>
      <p:sp>
        <p:nvSpPr>
          <p:cNvPr id="74" name="Espace réservé du pied de page 3"/>
          <p:cNvSpPr/>
          <p:nvPr/>
        </p:nvSpPr>
        <p:spPr>
          <a:xfrm>
            <a:off x="0" y="6165720"/>
            <a:ext cx="3608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8:33:53Z</dcterms:created>
  <dc:creator>Jean-Alain</dc:creator>
  <dc:description/>
  <dc:language>en-US</dc:language>
  <cp:lastModifiedBy>Jean-Alain HERAUD</cp:lastModifiedBy>
  <dcterms:modified xsi:type="dcterms:W3CDTF">2012-11-07T08:38:29Z</dcterms:modified>
  <cp:revision>63</cp:revision>
  <dc:subject/>
  <dc:title>La question de l’épuisement du pétrole</dc:title>
</cp:coreProperties>
</file>