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ean-Alain HERA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ean-Alain HERA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44DD-FC4C-4FFF-A525-9889315731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ean-Alain HERA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ean-Alain HERA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8417-454B-4618-9E7B-689B5483130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ean-Alain HERA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ean-Alain HERA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52EE-C66C-4E05-9E22-7A9348C869D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58B6-5398-4F80-910F-849D55F8A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1E3E-0986-4703-9DAC-7DF992D5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79E6-CC4B-4B88-983F-190D7CBB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2F55-FE0C-45EF-A11B-1883AFF5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FB4B-2E3B-42E9-88A4-A7D1F1D6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41BB-D0DA-4DBC-8FFE-C67D4570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D170-006E-480B-9D53-F393CC8F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E020-2DF4-43E5-975F-098A0237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D537-528E-406D-BD29-C56CD15F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886A-7CDE-4C72-B362-F06784F0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F5A0-DCE1-471C-96B0-28030C56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01BB-FB91-411C-A0C2-BED63543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OST         J-A. HERAUD 2011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51B9-EEAB-44C0-B1DC-AAD29C2149D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Chapitre 2</a:t>
            </a:r>
            <a:br>
              <a:rPr sz="2800"/>
            </a:b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Unités de mesure et transformations de l’é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Jean-Alain HERA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Université de Stras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FSEG/B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912240" y="404640"/>
            <a:ext cx="267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conomie de l’énerg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urs 2012-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Jean-Alain\Bureau\Transf CO H2.jpg"/>
          <p:cNvPicPr/>
          <p:nvPr/>
        </p:nvPicPr>
        <p:blipFill>
          <a:blip r:embed="rId1"/>
          <a:stretch/>
        </p:blipFill>
        <p:spPr>
          <a:xfrm>
            <a:off x="295200" y="-243000"/>
            <a:ext cx="8799480" cy="6369120"/>
          </a:xfrm>
          <a:prstGeom prst="rect">
            <a:avLst/>
          </a:prstGeom>
          <a:ln w="0">
            <a:noFill/>
          </a:ln>
        </p:spPr>
      </p:pic>
      <p:sp>
        <p:nvSpPr>
          <p:cNvPr id="76" name="Espace réservé du pied de page 3"/>
          <p:cNvSpPr/>
          <p:nvPr/>
        </p:nvSpPr>
        <p:spPr>
          <a:xfrm>
            <a:off x="3124080" y="6245280"/>
            <a:ext cx="360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OST         J-A. HERAUD    2012-13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3. La densité énergét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9" name="Espace réservé du pied de page 3"/>
          <p:cNvSpPr/>
          <p:nvPr/>
        </p:nvSpPr>
        <p:spPr>
          <a:xfrm>
            <a:off x="3124080" y="6245280"/>
            <a:ext cx="360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OST         J-A. HERAUD    2012-13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Densité d’énergie (MJ/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Espace réservé du contenu 4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sp>
        <p:nvSpPr>
          <p:cNvPr id="82" name="Espace réservé du pied de page 3"/>
          <p:cNvSpPr/>
          <p:nvPr/>
        </p:nvSpPr>
        <p:spPr>
          <a:xfrm>
            <a:off x="3124080" y="6245280"/>
            <a:ext cx="360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OST         J-A. HERAUD    2012-13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Rendement et encombrement: </a:t>
            </a:r>
            <a:br>
              <a:rPr sz="3600"/>
            </a:b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le cas de l’automob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57200" y="1600200"/>
          <a:ext cx="8229600" cy="34797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teur énergét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ence DIES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teries LITH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z Natur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drogè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ie à stocker pour 100 kWh mécani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 kW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 nécess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lit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à 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 à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à 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à 4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 à 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à 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ée de remplis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 à 7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85" name="ZoneTexte 5"/>
          <p:cNvSpPr/>
          <p:nvPr/>
        </p:nvSpPr>
        <p:spPr>
          <a:xfrm>
            <a:off x="4865760" y="5661000"/>
            <a:ext cx="379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Pour la Science ,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ossier N°69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space réservé du pied de page 3"/>
          <p:cNvSpPr/>
          <p:nvPr/>
        </p:nvSpPr>
        <p:spPr>
          <a:xfrm>
            <a:off x="3124080" y="6245280"/>
            <a:ext cx="360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OST         J-A. HERAUD    2012-13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1. Unités de mesure des ressources énergé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 la différence des sciences physiques, l’économie et le management de l’énergie s’expriment avec une grande variété d’unités de me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’énergie n’est pas homogène pour le monde de l’industrie ou pour le consommateur final: la dimension qualitative est essenti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Espace réservé du pied de page 3"/>
          <p:cNvSpPr/>
          <p:nvPr/>
        </p:nvSpPr>
        <p:spPr>
          <a:xfrm>
            <a:off x="3124080" y="6245280"/>
            <a:ext cx="360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OST         J-A. HERAUD    2012-13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Unités physiques d’éner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physique s’exprime en Joule, les ingénieurs et commerçants souvent avec d’autres unit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énéralement beaucoup plus grandes, comme la thermie ou le kW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’ordre de grandeur est plutôt le million de jo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 MJ (mégajoule) va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0,239 th (therm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0,278 kW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marque: 1 th = 1,163 kWh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même ordre de grandeu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ns certaines industries on parle encore en unités anglaises, l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TU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British Thermal Uni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 BTU = 1,055 10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MJ= 0,252 10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Espace réservé du pied de page 3"/>
          <p:cNvSpPr/>
          <p:nvPr/>
        </p:nvSpPr>
        <p:spPr>
          <a:xfrm>
            <a:off x="250920" y="6445080"/>
            <a:ext cx="36082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OST         J-A. HERAUD    2012-13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Equivalents standard </a:t>
            </a:r>
            <a:br>
              <a:rPr sz="3200"/>
            </a:b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pour le pétrole et le ch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nne équivalent pétrol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(tep)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ep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= 12 602 kWh (12,6 MWh) = 10 838 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marque: c’est une moyenne (pour un « bon » pétro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nne équivalent charbon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(tec)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ec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= 0,6 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marque: c’est une moyenne (pour une matière encore plus hétérogène que le pétrole conventionnel); la référence c’est l’anthracite qui est la meilleure forme de ch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space réservé du pied de page 3"/>
          <p:cNvSpPr/>
          <p:nvPr/>
        </p:nvSpPr>
        <p:spPr>
          <a:xfrm>
            <a:off x="3124080" y="6245280"/>
            <a:ext cx="360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OST         J-A. HERAUD    2012-13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Arial"/>
              </a:rPr>
              <a:t>Quelques exemples de contenu énergét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 tonne de gazole ou fioul domestique a un PCI (pouvoir calorifique inférieur) d’approximativement 1 tep (42 G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 tonne d’essence moteur = 1,05 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 tonne de fioul lourd = 0,95 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 tonne de houille = 0,62 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 tonne de coke (de houille ou de pétrole) = 0,76 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 tonne de lignite = 0,4 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3"/>
          <p:cNvSpPr/>
          <p:nvPr/>
        </p:nvSpPr>
        <p:spPr>
          <a:xfrm>
            <a:off x="3124080" y="6245280"/>
            <a:ext cx="360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OST         J-A. HERAUD    2012-13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L’unité traditionnelle </a:t>
            </a:r>
            <a:br>
              <a:rPr sz="3200"/>
            </a:b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utilisée dans l’industrie pétroli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baril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aril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= 159 lit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o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0,133 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,676 kW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,442 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Remarqu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 100 $/baril fait alors 5,5 ¢/kW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Espace réservé du pied de page 3"/>
          <p:cNvSpPr/>
          <p:nvPr/>
        </p:nvSpPr>
        <p:spPr>
          <a:xfrm>
            <a:off x="3124080" y="6453360"/>
            <a:ext cx="36086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OST         J-A. HERAUD    2012-13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Arial"/>
              </a:rPr>
              <a:t>Synthèse des taux de conver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C:\Documents and Settings\Jean-Alain\Bureau\conversions unités.jpg"/>
          <p:cNvPicPr/>
          <p:nvPr/>
        </p:nvPicPr>
        <p:blipFill>
          <a:blip r:embed="rId1"/>
          <a:stretch/>
        </p:blipFill>
        <p:spPr>
          <a:xfrm>
            <a:off x="-11160" y="2205000"/>
            <a:ext cx="9696600" cy="3054240"/>
          </a:xfrm>
          <a:prstGeom prst="rect">
            <a:avLst/>
          </a:prstGeom>
          <a:ln w="0">
            <a:noFill/>
          </a:ln>
        </p:spPr>
      </p:pic>
      <p:sp>
        <p:nvSpPr>
          <p:cNvPr id="68" name="Espace réservé du pied de page 3"/>
          <p:cNvSpPr/>
          <p:nvPr/>
        </p:nvSpPr>
        <p:spPr>
          <a:xfrm>
            <a:off x="3124080" y="6245280"/>
            <a:ext cx="360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OST         J-A. HERAUD    2012-13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2. La conversion des éner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y a d’abord des questions de rendement dans les install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contenu énergétique théorique d’une tonne de pétrole standard est 12,6 MW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s le rendement moyen des centrales thermiques fait qu’on en tire concrè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4 MWh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’électric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ce qui est du gaz naturel, le pouvoir calorifique moyen est de 10 th/m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onc 1m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N correspond à 11,6 kWh (un millième de te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Espace réservé du pied de page 3"/>
          <p:cNvSpPr/>
          <p:nvPr/>
        </p:nvSpPr>
        <p:spPr>
          <a:xfrm>
            <a:off x="3124080" y="6245280"/>
            <a:ext cx="360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OST         J-A. HERAUD    2012-13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17008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La conversion du charb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C:\Documents and Settings\Jean-Alain\Bureau\Conversion charbon.jpg"/>
          <p:cNvPicPr/>
          <p:nvPr/>
        </p:nvPicPr>
        <p:blipFill>
          <a:blip r:embed="rId1"/>
          <a:stretch/>
        </p:blipFill>
        <p:spPr>
          <a:xfrm>
            <a:off x="3924360" y="-243000"/>
            <a:ext cx="4895640" cy="7278840"/>
          </a:xfrm>
          <a:prstGeom prst="rect">
            <a:avLst/>
          </a:prstGeom>
          <a:ln w="0">
            <a:noFill/>
          </a:ln>
        </p:spPr>
      </p:pic>
      <p:sp>
        <p:nvSpPr>
          <p:cNvPr id="74" name="Espace réservé du pied de page 3"/>
          <p:cNvSpPr/>
          <p:nvPr/>
        </p:nvSpPr>
        <p:spPr>
          <a:xfrm>
            <a:off x="0" y="6165720"/>
            <a:ext cx="3608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OST         J-A. HERAUD    2012-13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9T18:33:53Z</dcterms:created>
  <dc:creator>Jean-Alain</dc:creator>
  <dc:description/>
  <dc:language>en-US</dc:language>
  <cp:lastModifiedBy>Jean-Alain HERAUD</cp:lastModifiedBy>
  <dcterms:modified xsi:type="dcterms:W3CDTF">2012-11-07T08:38:29Z</dcterms:modified>
  <cp:revision>63</cp:revision>
  <dc:subject/>
  <dc:title>La question de l’épuisement du pétrole</dc:title>
</cp:coreProperties>
</file>